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347404B-4989-4B62-BB58-5EC16A688BF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23840" y="787320"/>
            <a:ext cx="5054760" cy="37911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6080" y="4897440"/>
            <a:ext cx="52070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3731-31D6-4628-A286-1D47F285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2AA2-BE95-48FD-BB7E-36B089A9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7208-36F3-4594-9353-B9E23F35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22DF-CD98-407B-B8AF-AC13FFBA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BD58-01B7-4C8A-8FCF-AA67CF24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30C4-8EB6-4A0A-8E4E-CAEFF633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370A-12B5-467A-89FF-FED71CBE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FFB6-47D5-482A-BF43-DA197009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52F8-54C0-40C3-A6E6-229338C6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B216-76ED-4D27-BF3B-178066EF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AE6E-FEF3-4D53-9B2F-201BD6E2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1A4F-4F8E-4A8C-8ACE-69E83F48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A885-07EA-4E57-B5CB-97B6A5D73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420560"/>
            <a:ext cx="8305920" cy="26924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Перехід до нової моделі ринку електроенергії в Україні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71640" y="3500280"/>
            <a:ext cx="729144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.Кальч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олова Національної коміс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гулювання електроенергетики Украї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9720" y="5576760"/>
            <a:ext cx="774864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D1B-B4B2-415E-AA07-241841080CAC}" type="slidenum">
              <a:t>1</a:t>
            </a:fld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199188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нкуренція на ринку двосторонніх догово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имулює до зменшення витра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имулює збільшення маневрен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сокі платежі за балансуванн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имулюють зростання наявної робочої потужн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ворення достатніх резервів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нкуренцією на ринку балансування складніше маніпулюв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79280" y="6505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Переваги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: </a:t>
            </a:r>
            <a:br>
              <a:rPr sz="3200"/>
            </a:b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. Конкуренція та підвищення ефективності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262F-5D3A-4B0C-AE00-D42D247EC9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39348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Переваги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: </a:t>
            </a:r>
            <a:br>
              <a:rPr sz="3200"/>
            </a:b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Міжнародна торгівля та інтеграція в Європейський ринок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58680"/>
            <a:ext cx="839484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восторонні договори легко узгоджуються з довгостроковими та короткостроковими експортними контрактами і, таким чином, надають певних гарантій імпортерам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 експортерам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ільшість країн на захід від України мають ринки  двосторонніх договорів та балансування (РДД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инкова реформа передбачає розробку технічних кодексів – сумісних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 правилами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C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2BE4-8D4D-43AA-B2AA-5A6D1D4C27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184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Моделі ринку в Європі</a:t>
            </a: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 (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2868480" cy="2550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11760" y="1668600"/>
            <a:ext cx="4132080" cy="366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4CC6-3ED6-43FD-A871-B5898A4629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Моделі ринку в Європі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(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194000" y="1746360"/>
            <a:ext cx="3778560" cy="368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1433520" y="2820960"/>
          <a:ext cx="1859040" cy="173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33520" y="2820960"/>
                    <a:ext cx="185904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EF9D-9249-4FB6-9A99-DD7C7EEF5F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28480" y="123840"/>
            <a:ext cx="82188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Пул та ринок двосторонніх договорів.</a:t>
            </a:r>
            <a:br>
              <a:rPr sz="3200"/>
            </a:b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Головні відмінн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684680" y="1628640"/>
            <a:ext cx="4027680" cy="2362320"/>
            <a:chOff x="4684680" y="1628640"/>
            <a:chExt cx="4027680" cy="2362320"/>
          </a:xfrm>
        </p:grpSpPr>
        <p:sp>
          <p:nvSpPr>
            <p:cNvPr id="99" name=""/>
            <p:cNvSpPr/>
            <p:nvPr/>
          </p:nvSpPr>
          <p:spPr>
            <a:xfrm>
              <a:off x="4684680" y="1628640"/>
              <a:ext cx="4027680" cy="2362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4810680" y="1752480"/>
              <a:ext cx="3772800" cy="2152800"/>
              <a:chOff x="4810680" y="1752480"/>
              <a:chExt cx="3772800" cy="2152800"/>
            </a:xfrm>
          </p:grpSpPr>
          <p:sp>
            <p:nvSpPr>
              <p:cNvPr id="101" name=""/>
              <p:cNvSpPr/>
              <p:nvPr/>
            </p:nvSpPr>
            <p:spPr>
              <a:xfrm>
                <a:off x="5354640" y="1752480"/>
                <a:ext cx="722160" cy="47484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000" spc="-1" strike="noStrike">
                    <a:solidFill>
                      <a:srgbClr val="000000"/>
                    </a:solidFill>
                    <a:latin typeface="Arial"/>
                  </a:rPr>
                  <a:t>Виробник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43560" y="1752480"/>
                <a:ext cx="720720" cy="47484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000" spc="-1" strike="noStrike">
                    <a:solidFill>
                      <a:srgbClr val="000000"/>
                    </a:solidFill>
                    <a:latin typeface="Arial"/>
                  </a:rPr>
                  <a:t>Виробник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13760" y="1752480"/>
                <a:ext cx="739800" cy="47484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000" spc="-1" strike="noStrike">
                    <a:solidFill>
                      <a:srgbClr val="000000"/>
                    </a:solidFill>
                    <a:latin typeface="Arial"/>
                  </a:rPr>
                  <a:t>Виробник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5786280" y="2247840"/>
                <a:ext cx="1827360" cy="1257480"/>
                <a:chOff x="5786280" y="2247840"/>
                <a:chExt cx="1827360" cy="12574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786280" y="2247840"/>
                  <a:ext cx="0" cy="12574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700680" y="2247840"/>
                  <a:ext cx="0" cy="12574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613640" y="2247840"/>
                  <a:ext cx="0" cy="12574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H="1">
                  <a:off x="5883120" y="2247840"/>
                  <a:ext cx="1633680" cy="12574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883120" y="2247840"/>
                  <a:ext cx="1633680" cy="12574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>
                  <a:off x="6748200" y="2247840"/>
                  <a:ext cx="817560" cy="12574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748560" y="2247840"/>
                  <a:ext cx="817560" cy="12574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5833800" y="2247840"/>
                  <a:ext cx="817560" cy="12574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834160" y="2247840"/>
                  <a:ext cx="817560" cy="12574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8105400" y="2522520"/>
                <a:ext cx="478080" cy="52020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ctr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Б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8047080" y="3049200"/>
                <a:ext cx="243000" cy="415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096400" y="1979640"/>
                <a:ext cx="280800" cy="488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4810680" y="2522520"/>
                <a:ext cx="478080" cy="52020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ctr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Е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flipV="1">
                <a:off x="5116680" y="3094200"/>
                <a:ext cx="274320" cy="3744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959000" y="1979640"/>
                <a:ext cx="351000" cy="488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6099120" y="1914480"/>
                <a:ext cx="2318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7066080" y="1913040"/>
                <a:ext cx="2318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5970600" y="3687840"/>
                <a:ext cx="2318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7178760" y="3683160"/>
                <a:ext cx="2318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013360" y="3533760"/>
                <a:ext cx="965160" cy="3715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000" spc="-1" strike="noStrike">
                    <a:solidFill>
                      <a:srgbClr val="000000"/>
                    </a:solidFill>
                    <a:latin typeface="Arial"/>
                  </a:rPr>
                  <a:t>Постачальни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uk-UA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219720" y="3533760"/>
                <a:ext cx="939960" cy="3715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000" spc="-1" strike="noStrike">
                    <a:solidFill>
                      <a:srgbClr val="000000"/>
                    </a:solidFill>
                    <a:latin typeface="Arial"/>
                  </a:rPr>
                  <a:t>Постачальни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uk-UA" sz="1000" spc="-1" strike="noStrike">
                    <a:solidFill>
                      <a:srgbClr val="000000"/>
                    </a:solidFill>
                    <a:latin typeface="Arial"/>
                  </a:rPr>
                  <a:t>і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419960" y="3527280"/>
                <a:ext cx="863640" cy="3715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000" spc="-1" strike="noStrike">
                    <a:solidFill>
                      <a:srgbClr val="000000"/>
                    </a:solidFill>
                    <a:latin typeface="Arial"/>
                  </a:rPr>
                  <a:t>Постачальни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uk-UA" sz="10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907920" y="1592280"/>
            <a:ext cx="2882880" cy="2362320"/>
            <a:chOff x="907920" y="1592280"/>
            <a:chExt cx="2882880" cy="2362320"/>
          </a:xfrm>
        </p:grpSpPr>
        <p:sp>
          <p:nvSpPr>
            <p:cNvPr id="128" name=""/>
            <p:cNvSpPr/>
            <p:nvPr/>
          </p:nvSpPr>
          <p:spPr>
            <a:xfrm>
              <a:off x="907920" y="1592280"/>
              <a:ext cx="2882880" cy="2362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966960" y="1744560"/>
              <a:ext cx="2741400" cy="2124000"/>
              <a:chOff x="966960" y="1744560"/>
              <a:chExt cx="2741400" cy="2124000"/>
            </a:xfrm>
          </p:grpSpPr>
          <p:sp>
            <p:nvSpPr>
              <p:cNvPr id="130" name=""/>
              <p:cNvSpPr/>
              <p:nvPr/>
            </p:nvSpPr>
            <p:spPr>
              <a:xfrm>
                <a:off x="966960" y="3497400"/>
                <a:ext cx="863280" cy="3711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000" spc="-1" strike="noStrike">
                    <a:solidFill>
                      <a:srgbClr val="000000"/>
                    </a:solidFill>
                    <a:latin typeface="Arial"/>
                  </a:rPr>
                  <a:t>Постачальни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98640" y="2506680"/>
                <a:ext cx="865080" cy="53352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Пу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387440" y="2049480"/>
                <a:ext cx="627120" cy="533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49360" y="2049480"/>
                <a:ext cx="0" cy="457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638440" y="2049480"/>
                <a:ext cx="528480" cy="533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349360" y="3040200"/>
                <a:ext cx="5040" cy="4093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417320" y="2963880"/>
                <a:ext cx="630360" cy="4906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619360" y="2963880"/>
                <a:ext cx="684360" cy="4856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14480" y="1744560"/>
                <a:ext cx="806400" cy="45720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000" spc="-1" strike="noStrike">
                    <a:solidFill>
                      <a:srgbClr val="000000"/>
                    </a:solidFill>
                    <a:latin typeface="Arial"/>
                  </a:rPr>
                  <a:t>Генеруючи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000" spc="-1" strike="noStrike">
                    <a:solidFill>
                      <a:srgbClr val="000000"/>
                    </a:solidFill>
                    <a:latin typeface="Arial"/>
                  </a:rPr>
                  <a:t>блок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27080" y="1744560"/>
                <a:ext cx="789120" cy="45720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000" spc="-1" strike="noStrike">
                    <a:solidFill>
                      <a:srgbClr val="000000"/>
                    </a:solidFill>
                    <a:latin typeface="Arial"/>
                  </a:rPr>
                  <a:t>Генеруючи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000" spc="-1" strike="noStrike">
                    <a:solidFill>
                      <a:srgbClr val="000000"/>
                    </a:solidFill>
                    <a:latin typeface="Arial"/>
                  </a:rPr>
                  <a:t>Блок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01880" y="1744560"/>
                <a:ext cx="817560" cy="45720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000" spc="-1" strike="noStrike">
                    <a:solidFill>
                      <a:srgbClr val="000000"/>
                    </a:solidFill>
                    <a:latin typeface="Arial"/>
                  </a:rPr>
                  <a:t>Генеруючи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000" spc="-1" strike="noStrike">
                    <a:solidFill>
                      <a:srgbClr val="000000"/>
                    </a:solidFill>
                    <a:latin typeface="Arial"/>
                  </a:rPr>
                  <a:t>Блок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911240" y="3494160"/>
                <a:ext cx="863640" cy="3715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000" spc="-1" strike="noStrike">
                    <a:solidFill>
                      <a:srgbClr val="000000"/>
                    </a:solidFill>
                    <a:latin typeface="Arial"/>
                  </a:rPr>
                  <a:t>Постачальни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uk-UA" sz="1000" spc="-1" strike="noStrike">
                    <a:solidFill>
                      <a:srgbClr val="000000"/>
                    </a:solidFill>
                    <a:latin typeface="Arial"/>
                  </a:rPr>
                  <a:t>і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844720" y="3494160"/>
                <a:ext cx="863640" cy="3715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000" spc="-1" strike="noStrike">
                    <a:solidFill>
                      <a:srgbClr val="000000"/>
                    </a:solidFill>
                    <a:latin typeface="Arial"/>
                  </a:rPr>
                  <a:t>Постачальни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uk-UA" sz="10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896760" y="4030560"/>
            <a:ext cx="28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П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40320" y="407664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Ринок двосторонніх договор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4653000"/>
            <a:ext cx="818496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ctr" pos="1969920"/>
                <a:tab algn="ctr" pos="4037040"/>
                <a:tab algn="ctr" pos="610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Централізоване складання графіку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ецентралізоване складання графі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1969920"/>
                <a:tab algn="ctr" pos="4037040"/>
                <a:tab algn="ctr" pos="610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 базі блоків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 базі компані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1969920"/>
                <a:tab algn="ctr" pos="4037040"/>
                <a:tab algn="ctr" pos="610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одаж в одному напрямку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одаж в обох напрямк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1969920"/>
                <a:tab algn="ctr" pos="4037040"/>
                <a:tab algn="ctr" pos="610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бов'язковий пул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бровільна Е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1969920"/>
                <a:tab algn="ctr" pos="4037040"/>
                <a:tab algn="ctr" pos="610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нтегроване балансування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кремий балансуючий механіз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043C-4E6C-465E-A08E-87E8C912EE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Поетапний перехід протягом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5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рок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34960" y="1600200"/>
            <a:ext cx="62722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39F8-3E8F-41E9-9C06-3353F51998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184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Етапи реформування ринку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724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тап 1 –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очаткове навчання</a:t>
            </a:r>
            <a:br>
              <a:rPr sz="20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вчити учасників ринку укладати двосторонні догов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тап 2 –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апровадження балансуючого механізм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часники ринку підпадають під ризик небаланс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ідкреслюється необхідність навчитися точному плануванню та прогнозуванню споживанн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тап 3 –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апровадження самостійного складання графіків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хід від централізованого до самостійного складання індивідуальних графіків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мі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л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восторонніми торгами та біржею електричної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тап 4 –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авершення роботи об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зкового ринку</a:t>
            </a:r>
            <a:br>
              <a:rPr sz="20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сунення залишкових перехідних механізм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550F-3289-42D5-AB3F-010715503D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6969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План впровадж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160956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и можливе більш раннє запровадження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53880" y="2463840"/>
            <a:ext cx="8526960" cy="2590920"/>
            <a:chOff x="353880" y="2463840"/>
            <a:chExt cx="8526960" cy="2590920"/>
          </a:xfrm>
        </p:grpSpPr>
        <p:sp>
          <p:nvSpPr>
            <p:cNvPr id="153" name=""/>
            <p:cNvSpPr/>
            <p:nvPr/>
          </p:nvSpPr>
          <p:spPr>
            <a:xfrm>
              <a:off x="3600000" y="2832120"/>
              <a:ext cx="950040" cy="140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50400" y="3013200"/>
              <a:ext cx="964440" cy="140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75480" y="3375360"/>
              <a:ext cx="639720" cy="140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13760" y="3599640"/>
              <a:ext cx="320760" cy="139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33080" y="3780720"/>
              <a:ext cx="320400" cy="139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74320" y="4143240"/>
              <a:ext cx="637920" cy="140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10800" y="4324320"/>
              <a:ext cx="1756080" cy="140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27160" y="4686480"/>
              <a:ext cx="639360" cy="140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65440" y="4867560"/>
              <a:ext cx="639360" cy="140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57640" y="24728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31440" y="2472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62760" y="24728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98000" y="24728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36280" y="24728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74920" y="24728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12120" y="24728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0000"/>
                  </a:solidFill>
                  <a:latin typeface="Arial"/>
                </a:rPr>
                <a:t>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52200" y="24728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0000"/>
                  </a:solidFill>
                  <a:latin typeface="Arial"/>
                </a:rPr>
                <a:t>20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89040" y="24728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0000"/>
                  </a:solidFill>
                  <a:latin typeface="Arial"/>
                </a:rPr>
                <a:t>20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26600" y="24728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0000"/>
                  </a:solidFill>
                  <a:latin typeface="Arial"/>
                </a:rPr>
                <a:t>20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64880" y="24728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5280" y="2685240"/>
              <a:ext cx="44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0000"/>
                  </a:solidFill>
                  <a:latin typeface="Arial"/>
                </a:rPr>
                <a:t>Етап 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45400" y="2695320"/>
              <a:ext cx="1293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0000"/>
                  </a:solidFill>
                  <a:latin typeface="Arial"/>
                </a:rPr>
                <a:t>Початкове навчанн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08440" y="2832120"/>
              <a:ext cx="50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ffffff"/>
                  </a:solidFill>
                  <a:latin typeface="Arial"/>
                </a:rPr>
                <a:t>Підготовк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03400" y="3020400"/>
              <a:ext cx="70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ffffff"/>
                  </a:solidFill>
                  <a:latin typeface="Arial"/>
                </a:rPr>
                <a:t>Впровадженн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520" y="3238920"/>
              <a:ext cx="416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0000"/>
                  </a:solidFill>
                  <a:latin typeface="Arial"/>
                </a:rPr>
                <a:t>Етап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06800" y="3233160"/>
              <a:ext cx="261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0000"/>
                  </a:solidFill>
                  <a:latin typeface="Arial"/>
                </a:rPr>
                <a:t>Запровадження балансуючого механізм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60440" y="3382920"/>
              <a:ext cx="50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ffffff"/>
                  </a:solidFill>
                  <a:latin typeface="Arial"/>
                </a:rPr>
                <a:t>Підготовк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4120" y="3571560"/>
              <a:ext cx="69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під-етап 2(і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56560" y="3580560"/>
              <a:ext cx="2960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БР використовує пропозиції пулу на добу напере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8920" y="3605760"/>
              <a:ext cx="20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ffffff"/>
                  </a:solidFill>
                  <a:latin typeface="Arial"/>
                </a:rPr>
                <a:t>Впр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52960" y="3767400"/>
              <a:ext cx="253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БР використовує окремі заявки і пропозиці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9800" y="4006440"/>
              <a:ext cx="43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0000"/>
                  </a:solidFill>
                  <a:latin typeface="Arial"/>
                </a:rPr>
                <a:t>Етап 3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77640" y="3996000"/>
              <a:ext cx="3128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0000"/>
                  </a:solidFill>
                  <a:latin typeface="Arial Cyr"/>
                </a:rPr>
                <a:t>Запровадження самостійного складання графікі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82120" y="4334760"/>
              <a:ext cx="70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ffffff"/>
                  </a:solidFill>
                  <a:latin typeface="Arial"/>
                </a:rPr>
                <a:t>Впровадженн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3560" y="4550040"/>
              <a:ext cx="43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0000"/>
                  </a:solidFill>
                  <a:latin typeface="Arial"/>
                </a:rPr>
                <a:t>Етап 4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92760" y="4542480"/>
              <a:ext cx="3181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0000"/>
                  </a:solidFill>
                  <a:latin typeface="Arial"/>
                </a:rPr>
                <a:t>Припинення функціонування обов'язкового ринк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94600" y="2473920"/>
              <a:ext cx="1080" cy="76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94600" y="2473920"/>
              <a:ext cx="11520" cy="76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94600" y="3375360"/>
              <a:ext cx="10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94600" y="3375360"/>
              <a:ext cx="11520" cy="22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94600" y="3737880"/>
              <a:ext cx="108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94600" y="3737880"/>
              <a:ext cx="11520" cy="4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94600" y="3920400"/>
              <a:ext cx="1080" cy="8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94600" y="3920400"/>
              <a:ext cx="11520" cy="8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94600" y="4143240"/>
              <a:ext cx="108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94600" y="4143240"/>
              <a:ext cx="11520" cy="40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3880" y="2463840"/>
              <a:ext cx="1440" cy="2590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3880" y="2463840"/>
              <a:ext cx="10080" cy="2590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94600" y="4686480"/>
              <a:ext cx="1080" cy="36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94600" y="4686480"/>
              <a:ext cx="11520" cy="36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32880" y="2473920"/>
              <a:ext cx="1080" cy="13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32880" y="2473920"/>
              <a:ext cx="10080" cy="13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70800" y="2473920"/>
              <a:ext cx="1080" cy="13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70800" y="2473920"/>
              <a:ext cx="10080" cy="13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08000" y="2473920"/>
              <a:ext cx="1080" cy="13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08000" y="2473920"/>
              <a:ext cx="11520" cy="13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46280" y="2473920"/>
              <a:ext cx="1080" cy="13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46280" y="2473920"/>
              <a:ext cx="11520" cy="13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84200" y="2473920"/>
              <a:ext cx="1440" cy="13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4200" y="2473920"/>
              <a:ext cx="10080" cy="13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22480" y="2473920"/>
              <a:ext cx="1440" cy="13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22480" y="2473920"/>
              <a:ext cx="10080" cy="13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59680" y="2473920"/>
              <a:ext cx="1440" cy="13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59680" y="2473920"/>
              <a:ext cx="11520" cy="13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97600" y="2473920"/>
              <a:ext cx="1440" cy="13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697600" y="2473920"/>
              <a:ext cx="10080" cy="13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858520" y="2473920"/>
              <a:ext cx="1080" cy="258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858520" y="2473920"/>
              <a:ext cx="10080" cy="258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3960" y="2463840"/>
              <a:ext cx="850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3960" y="2463840"/>
              <a:ext cx="850428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3960" y="2603520"/>
              <a:ext cx="8504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960" y="2603520"/>
              <a:ext cx="850428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3960" y="3188160"/>
              <a:ext cx="850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3960" y="3188160"/>
              <a:ext cx="8504280" cy="11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3960" y="3956040"/>
              <a:ext cx="850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3960" y="3956040"/>
              <a:ext cx="850428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960" y="4499280"/>
              <a:ext cx="850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3960" y="4499280"/>
              <a:ext cx="8504280" cy="11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3960" y="5044680"/>
              <a:ext cx="8504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3960" y="5044680"/>
              <a:ext cx="850428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94600" y="2647800"/>
              <a:ext cx="1913400" cy="77400"/>
            </a:xfrm>
            <a:custGeom>
              <a:avLst/>
              <a:gdLst/>
              <a:ahLst/>
              <a:rect l="l" t="t" r="r" b="b"/>
              <a:pathLst>
                <a:path w="1289" h="52">
                  <a:moveTo>
                    <a:pt x="0" y="17"/>
                  </a:moveTo>
                  <a:lnTo>
                    <a:pt x="1246" y="17"/>
                  </a:lnTo>
                  <a:lnTo>
                    <a:pt x="1246" y="34"/>
                  </a:lnTo>
                  <a:lnTo>
                    <a:pt x="0" y="34"/>
                  </a:lnTo>
                  <a:lnTo>
                    <a:pt x="0" y="17"/>
                  </a:lnTo>
                  <a:close/>
                  <a:moveTo>
                    <a:pt x="1238" y="0"/>
                  </a:moveTo>
                  <a:lnTo>
                    <a:pt x="1289" y="26"/>
                  </a:lnTo>
                  <a:lnTo>
                    <a:pt x="1238" y="52"/>
                  </a:lnTo>
                  <a:lnTo>
                    <a:pt x="1238" y="0"/>
                  </a:lnTo>
                  <a:close/>
                </a:path>
              </a:pathLst>
            </a:custGeom>
            <a:solidFill>
              <a:srgbClr val="003366"/>
            </a:solidFill>
            <a:ln w="1440">
              <a:solidFill>
                <a:srgbClr val="0033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1720" y="3192840"/>
              <a:ext cx="1294200" cy="75600"/>
            </a:xfrm>
            <a:custGeom>
              <a:avLst/>
              <a:gdLst/>
              <a:ahLst/>
              <a:rect l="l" t="t" r="r" b="b"/>
              <a:pathLst>
                <a:path w="872" h="51">
                  <a:moveTo>
                    <a:pt x="0" y="17"/>
                  </a:moveTo>
                  <a:lnTo>
                    <a:pt x="829" y="17"/>
                  </a:lnTo>
                  <a:lnTo>
                    <a:pt x="829" y="34"/>
                  </a:lnTo>
                  <a:lnTo>
                    <a:pt x="0" y="34"/>
                  </a:lnTo>
                  <a:lnTo>
                    <a:pt x="0" y="17"/>
                  </a:lnTo>
                  <a:close/>
                  <a:moveTo>
                    <a:pt x="821" y="0"/>
                  </a:moveTo>
                  <a:lnTo>
                    <a:pt x="872" y="25"/>
                  </a:lnTo>
                  <a:lnTo>
                    <a:pt x="821" y="51"/>
                  </a:lnTo>
                  <a:lnTo>
                    <a:pt x="821" y="0"/>
                  </a:lnTo>
                  <a:close/>
                </a:path>
              </a:pathLst>
            </a:custGeom>
            <a:solidFill>
              <a:srgbClr val="003366"/>
            </a:solidFill>
            <a:ln w="1440">
              <a:solidFill>
                <a:srgbClr val="0033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77200" y="3958920"/>
              <a:ext cx="2382120" cy="77040"/>
            </a:xfrm>
            <a:custGeom>
              <a:avLst/>
              <a:gdLst/>
              <a:ahLst/>
              <a:rect l="l" t="t" r="r" b="b"/>
              <a:pathLst>
                <a:path w="1605" h="52">
                  <a:moveTo>
                    <a:pt x="0" y="17"/>
                  </a:moveTo>
                  <a:lnTo>
                    <a:pt x="1562" y="17"/>
                  </a:lnTo>
                  <a:lnTo>
                    <a:pt x="1562" y="35"/>
                  </a:lnTo>
                  <a:lnTo>
                    <a:pt x="0" y="35"/>
                  </a:lnTo>
                  <a:lnTo>
                    <a:pt x="0" y="17"/>
                  </a:lnTo>
                  <a:close/>
                  <a:moveTo>
                    <a:pt x="1554" y="0"/>
                  </a:moveTo>
                  <a:lnTo>
                    <a:pt x="1605" y="26"/>
                  </a:lnTo>
                  <a:lnTo>
                    <a:pt x="1554" y="52"/>
                  </a:lnTo>
                  <a:lnTo>
                    <a:pt x="1554" y="0"/>
                  </a:lnTo>
                  <a:close/>
                </a:path>
              </a:pathLst>
            </a:custGeom>
            <a:solidFill>
              <a:srgbClr val="003366"/>
            </a:solidFill>
            <a:ln w="1440">
              <a:solidFill>
                <a:srgbClr val="0033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697600" y="4867560"/>
              <a:ext cx="158760" cy="139320"/>
            </a:xfrm>
            <a:custGeom>
              <a:avLst/>
              <a:gdLst/>
              <a:ahLst/>
              <a:rect l="l" t="t" r="r" b="b"/>
              <a:pathLst>
                <a:path w="107" h="94">
                  <a:moveTo>
                    <a:pt x="46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46" y="94"/>
                  </a:lnTo>
                  <a:lnTo>
                    <a:pt x="107" y="47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7871040" y="4664520"/>
              <a:ext cx="498600" cy="341280"/>
              <a:chOff x="7871040" y="4664520"/>
              <a:chExt cx="498600" cy="341280"/>
            </a:xfrm>
          </p:grpSpPr>
          <p:pic>
            <p:nvPicPr>
              <p:cNvPr id="23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871040" y="4664520"/>
                <a:ext cx="498600" cy="34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871040" y="4664520"/>
                <a:ext cx="498600" cy="341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0" name=""/>
            <p:cNvSpPr/>
            <p:nvPr/>
          </p:nvSpPr>
          <p:spPr>
            <a:xfrm>
              <a:off x="8085240" y="3987360"/>
              <a:ext cx="741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900" spc="-1" strike="noStrike">
                  <a:solidFill>
                    <a:srgbClr val="000000"/>
                  </a:solidFill>
                  <a:latin typeface="Arial"/>
                </a:rPr>
                <a:t>Повноцінн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74080" y="4118040"/>
              <a:ext cx="806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900" spc="-1" strike="noStrike">
                  <a:solidFill>
                    <a:srgbClr val="000000"/>
                  </a:solidFill>
                  <a:latin typeface="Arial"/>
                </a:rPr>
                <a:t>початок ДДБР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46520" y="4386600"/>
              <a:ext cx="209160" cy="302760"/>
            </a:xfrm>
            <a:custGeom>
              <a:avLst/>
              <a:gdLst/>
              <a:ahLst/>
              <a:rect l="l" t="t" r="r" b="b"/>
              <a:pathLst>
                <a:path w="623" h="894">
                  <a:moveTo>
                    <a:pt x="618" y="28"/>
                  </a:moveTo>
                  <a:lnTo>
                    <a:pt x="109" y="767"/>
                  </a:lnTo>
                  <a:cubicBezTo>
                    <a:pt x="104" y="774"/>
                    <a:pt x="93" y="776"/>
                    <a:pt x="86" y="771"/>
                  </a:cubicBezTo>
                  <a:cubicBezTo>
                    <a:pt x="78" y="766"/>
                    <a:pt x="76" y="755"/>
                    <a:pt x="81" y="748"/>
                  </a:cubicBezTo>
                  <a:lnTo>
                    <a:pt x="591" y="9"/>
                  </a:lnTo>
                  <a:cubicBezTo>
                    <a:pt x="596" y="1"/>
                    <a:pt x="606" y="0"/>
                    <a:pt x="614" y="5"/>
                  </a:cubicBezTo>
                  <a:cubicBezTo>
                    <a:pt x="622" y="10"/>
                    <a:pt x="623" y="20"/>
                    <a:pt x="618" y="28"/>
                  </a:cubicBezTo>
                  <a:close/>
                  <a:moveTo>
                    <a:pt x="196" y="787"/>
                  </a:moveTo>
                  <a:lnTo>
                    <a:pt x="0" y="894"/>
                  </a:lnTo>
                  <a:lnTo>
                    <a:pt x="32" y="673"/>
                  </a:lnTo>
                  <a:lnTo>
                    <a:pt x="196" y="787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21400" y="4503600"/>
              <a:ext cx="1445760" cy="75600"/>
            </a:xfrm>
            <a:custGeom>
              <a:avLst/>
              <a:gdLst/>
              <a:ahLst/>
              <a:rect l="l" t="t" r="r" b="b"/>
              <a:pathLst>
                <a:path w="974" h="51">
                  <a:moveTo>
                    <a:pt x="0" y="17"/>
                  </a:moveTo>
                  <a:lnTo>
                    <a:pt x="931" y="17"/>
                  </a:lnTo>
                  <a:lnTo>
                    <a:pt x="931" y="34"/>
                  </a:lnTo>
                  <a:lnTo>
                    <a:pt x="0" y="34"/>
                  </a:lnTo>
                  <a:lnTo>
                    <a:pt x="0" y="17"/>
                  </a:lnTo>
                  <a:close/>
                  <a:moveTo>
                    <a:pt x="922" y="0"/>
                  </a:moveTo>
                  <a:lnTo>
                    <a:pt x="974" y="25"/>
                  </a:lnTo>
                  <a:lnTo>
                    <a:pt x="922" y="51"/>
                  </a:lnTo>
                  <a:lnTo>
                    <a:pt x="922" y="0"/>
                  </a:lnTo>
                  <a:close/>
                </a:path>
              </a:pathLst>
            </a:custGeom>
            <a:solidFill>
              <a:srgbClr val="003366"/>
            </a:solidFill>
            <a:ln w="1440">
              <a:solidFill>
                <a:srgbClr val="0033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2760" y="3769200"/>
              <a:ext cx="72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під-етап 2(іі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91400" y="3791160"/>
              <a:ext cx="20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ffffff"/>
                  </a:solidFill>
                  <a:latin typeface="Arial"/>
                </a:rPr>
                <a:t>Впр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56400" y="4146120"/>
              <a:ext cx="50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ffffff"/>
                  </a:solidFill>
                  <a:latin typeface="Arial"/>
                </a:rPr>
                <a:t>Підготовк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87400" y="4872240"/>
              <a:ext cx="70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ffffff"/>
                  </a:solidFill>
                  <a:latin typeface="Arial"/>
                </a:rPr>
                <a:t>Впровадженн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511400" y="4695480"/>
              <a:ext cx="50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ffffff"/>
                  </a:solidFill>
                  <a:latin typeface="Arial"/>
                </a:rPr>
                <a:t>Підготовк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597-2413-4CAD-961F-27B0AA1573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34740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Структура впровадження нової моделі ри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50920" y="1509840"/>
          <a:ext cx="8713440" cy="647640"/>
        </p:xfrm>
        <a:graphic>
          <a:graphicData uri="http://schemas.openxmlformats.org/drawingml/2006/table">
            <a:tbl>
              <a:tblPr/>
              <a:tblGrid>
                <a:gridCol w="87134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іжвідомча комісія з координації роботи, пов'язаної з реалізацією положень Концепції функціонування та розвитку оптового ринку електричної енергії Украї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211640" y="2949480"/>
          <a:ext cx="4608000" cy="718920"/>
        </p:xfrm>
        <a:graphic>
          <a:graphicData uri="http://schemas.openxmlformats.org/drawingml/2006/table">
            <a:tbl>
              <a:tblPr/>
              <a:tblGrid>
                <a:gridCol w="460800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обочі групи з впровадження ринку за напрям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1332000" y="2301840"/>
          <a:ext cx="6624000" cy="433440"/>
        </p:xfrm>
        <a:graphic>
          <a:graphicData uri="http://schemas.openxmlformats.org/drawingml/2006/table">
            <a:tbl>
              <a:tblPr/>
              <a:tblGrid>
                <a:gridCol w="662400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руктури з впровадження ринку електричної енерг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211640" y="3668760"/>
          <a:ext cx="4608000" cy="2630520"/>
        </p:xfrm>
        <a:graphic>
          <a:graphicData uri="http://schemas.openxmlformats.org/drawingml/2006/table">
            <a:tbl>
              <a:tblPr/>
              <a:tblGrid>
                <a:gridCol w="4608000"/>
              </a:tblGrid>
              <a:tr h="2635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8576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Законодавче підґрунтя та регулювання діяльності ОРЕ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8576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Механізми фінансових розрахунків між учасниками ОРЕ та система забезпечення виконання фінансових зобов'язань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8576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рганізаційна структура, договірна система оформлення відносин та засади саморегулювання ОРЕ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8576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Економічні засади функціонування ОРЕ та його розвитку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8576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иробничо-технологічна система забезпечення роботи ОР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2916360" y="933480"/>
          <a:ext cx="3671640" cy="455760"/>
        </p:xfrm>
        <a:graphic>
          <a:graphicData uri="http://schemas.openxmlformats.org/drawingml/2006/table">
            <a:tbl>
              <a:tblPr/>
              <a:tblGrid>
                <a:gridCol w="3671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ряд Украї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468360" y="2949480"/>
          <a:ext cx="3527280" cy="432000"/>
        </p:xfrm>
        <a:graphic>
          <a:graphicData uri="http://schemas.openxmlformats.org/drawingml/2006/table">
            <a:tbl>
              <a:tblPr/>
              <a:tblGrid>
                <a:gridCol w="352728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епартаменти з впровадже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468360" y="3381480"/>
          <a:ext cx="3527280" cy="1728720"/>
        </p:xfrm>
        <a:graphic>
          <a:graphicData uri="http://schemas.openxmlformats.org/drawingml/2006/table">
            <a:tbl>
              <a:tblPr/>
              <a:tblGrid>
                <a:gridCol w="352728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648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ЕК “Укренерго” – балансуючий ринок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648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П “Енергоринок” – Енергобіржа,        Розпорядник розрахунків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648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КР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648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Міністерство палива та енергети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648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Учасники ринк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4572000" y="13651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572000" y="21571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95640" y="27338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12000" y="27338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06DE-3941-4D1D-BF83-16A331993B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259920"/>
            <a:ext cx="8393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Реформування електроенергетики Украї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640" y="907560"/>
            <a:ext cx="81597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994 -  створення Національної комісії регулювання електроенергетики України (НКР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53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кономічне регулюва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53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рияння конкурен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53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іцензуванн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53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хист прав споживачів.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996 - реструктуризація галуз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 відокремленням виробництва, передачі, розподілу та постач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53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 компанії ТЕС,  2 компанії ГЕС, 1 компанію АЕ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53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 компанія магістральних мере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53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7 регіональних розподільчих компані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996 - створення оптового ринку електроенерг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534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дель “єдиного покупц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534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С працюють за ціновими заяв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534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ЕС, ГЕС, ВЕС, ТЕЦ за регульованим тариф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B729-833D-47F2-9572-31F2DE656A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785960" y="2225520"/>
          <a:ext cx="5599080" cy="314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2225520"/>
                    <a:ext cx="5599080" cy="31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Динаміка оплати купованої</a:t>
            </a:r>
            <a:br>
              <a:rPr sz="3200"/>
            </a:b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на оптовому ринку електричної енергії,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BC3B-A273-4618-8469-33CC402A97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40" y="404640"/>
            <a:ext cx="885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Концепція функціонування та розвитку оптового ринку електроенергії України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(Постанова КМУ №1789 від 16.11.2002)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76120" y="1413000"/>
            <a:ext cx="8748360" cy="4670280"/>
            <a:chOff x="276120" y="1413000"/>
            <a:chExt cx="8748360" cy="4670280"/>
          </a:xfrm>
        </p:grpSpPr>
        <p:sp>
          <p:nvSpPr>
            <p:cNvPr id="58" name=""/>
            <p:cNvSpPr/>
            <p:nvPr/>
          </p:nvSpPr>
          <p:spPr>
            <a:xfrm>
              <a:off x="276120" y="3005280"/>
              <a:ext cx="4310280" cy="254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7840" indent="-810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Arial"/>
                </a:rPr>
                <a:t>Удосконалення існуючої систе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810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8100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Повний поточний платіж та вирішення питання борг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8100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Надати виробникам доступ до ринків пали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8100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Удосконалити регулювання цін та тарифів, вирішити питання субсиді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8100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Удосконалити нормативну, правову та контрактну базу О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8100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Установити і контролювати конкуренці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8100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Усунути адміністративне втручан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304360" y="1413000"/>
              <a:ext cx="4563720" cy="1273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Єдина Концепці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функціонування та розвитку ОР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01640" y="5765040"/>
              <a:ext cx="4183200" cy="31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Майбутня модель на основі світового досвід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656280" y="2474280"/>
              <a:ext cx="2154960" cy="318240"/>
              <a:chOff x="656280" y="2474280"/>
              <a:chExt cx="2154960" cy="318240"/>
            </a:xfrm>
          </p:grpSpPr>
          <p:sp>
            <p:nvSpPr>
              <p:cNvPr id="62" name=""/>
              <p:cNvSpPr/>
              <p:nvPr/>
            </p:nvSpPr>
            <p:spPr>
              <a:xfrm>
                <a:off x="656280" y="2474280"/>
                <a:ext cx="1521000" cy="3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100" spc="-1" strike="noStrike">
                    <a:solidFill>
                      <a:srgbClr val="000000"/>
                    </a:solidFill>
                    <a:latin typeface="Arial"/>
                  </a:rPr>
                  <a:t>Вирішення поточних проблем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2431080" y="2580480"/>
                <a:ext cx="380160" cy="21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6361200" y="2474280"/>
              <a:ext cx="2663280" cy="318240"/>
              <a:chOff x="6361200" y="2474280"/>
              <a:chExt cx="2663280" cy="318240"/>
            </a:xfrm>
          </p:grpSpPr>
          <p:sp>
            <p:nvSpPr>
              <p:cNvPr id="65" name=""/>
              <p:cNvSpPr/>
              <p:nvPr/>
            </p:nvSpPr>
            <p:spPr>
              <a:xfrm>
                <a:off x="6868080" y="2474280"/>
                <a:ext cx="215640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100" spc="-1" strike="noStrike">
                    <a:solidFill>
                      <a:srgbClr val="000000"/>
                    </a:solidFill>
                    <a:latin typeface="Arial"/>
                  </a:rPr>
                  <a:t>Визначений оптимальний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100" spc="-1" strike="noStrike">
                    <a:solidFill>
                      <a:srgbClr val="000000"/>
                    </a:solidFill>
                    <a:latin typeface="Arial"/>
                  </a:rPr>
                  <a:t>перехід до майбутньої моделі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361200" y="2580480"/>
                <a:ext cx="380160" cy="21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586400" y="3005280"/>
              <a:ext cx="4310280" cy="2547360"/>
              <a:chOff x="4586400" y="3005280"/>
              <a:chExt cx="4310280" cy="2547360"/>
            </a:xfrm>
          </p:grpSpPr>
          <p:sp>
            <p:nvSpPr>
              <p:cNvPr id="68" name=""/>
              <p:cNvSpPr/>
              <p:nvPr/>
            </p:nvSpPr>
            <p:spPr>
              <a:xfrm>
                <a:off x="4586400" y="3005280"/>
                <a:ext cx="4310280" cy="2547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77840" indent="-88920" algn="ctr"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400" spc="-1" strike="noStrike">
                    <a:solidFill>
                      <a:srgbClr val="000000"/>
                    </a:solidFill>
                    <a:latin typeface="Arial"/>
                  </a:rPr>
                  <a:t>Поетапне впровадження двосторонніх контрактів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7840" indent="-88920" algn="ctr"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7840" indent="-88920">
                  <a:spcBef>
                    <a:spcPts val="45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Arial"/>
                  </a:rPr>
                  <a:t>між ТЕЦ та постачальником (П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7840" indent="-88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Arial"/>
                  </a:rPr>
                  <a:t>та/або кінцевим споживачем (КС);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7840" indent="-88920">
                  <a:spcBef>
                    <a:spcPts val="6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Arial"/>
                  </a:rPr>
                  <a:t>між ТЕЦ, ТЕС, АЕС та П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7840" indent="-88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Arial"/>
                  </a:rPr>
                  <a:t>та/або КС, річне споживання К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7840" indent="-88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Arial"/>
                  </a:rPr>
                  <a:t>&gt; 250 млн. кВт год;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7840" indent="-88920">
                  <a:spcBef>
                    <a:spcPts val="6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Arial"/>
                  </a:rPr>
                  <a:t>між ТЕЦ, ТЕС, АЕС та П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7840" indent="-88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Arial"/>
                  </a:rPr>
                  <a:t>та/або КС, річне споживання К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7840" indent="-88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Arial"/>
                  </a:rPr>
                  <a:t>&gt; 100 млн. кВт год;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8009280" y="3641760"/>
                <a:ext cx="802800" cy="1634040"/>
                <a:chOff x="8009280" y="3641760"/>
                <a:chExt cx="802800" cy="1634040"/>
              </a:xfrm>
            </p:grpSpPr>
            <p:grpSp>
              <p:nvGrpSpPr>
                <p:cNvPr id="70" name=""/>
                <p:cNvGrpSpPr/>
                <p:nvPr/>
              </p:nvGrpSpPr>
              <p:grpSpPr>
                <a:xfrm>
                  <a:off x="8558640" y="3641760"/>
                  <a:ext cx="253440" cy="1634040"/>
                  <a:chOff x="8558640" y="3641760"/>
                  <a:chExt cx="253440" cy="1634040"/>
                </a:xfrm>
              </p:grpSpPr>
              <p:sp>
                <p:nvSpPr>
                  <p:cNvPr id="71" name=""/>
                  <p:cNvSpPr/>
                  <p:nvPr/>
                </p:nvSpPr>
                <p:spPr>
                  <a:xfrm>
                    <a:off x="8558640" y="3896280"/>
                    <a:ext cx="253440" cy="1379520"/>
                  </a:xfrm>
                  <a:prstGeom prst="downArrow">
                    <a:avLst>
                      <a:gd name="adj1" fmla="val 50000"/>
                      <a:gd name="adj2" fmla="val 13608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617680" y="3740400"/>
                    <a:ext cx="126720" cy="10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8617680" y="3641760"/>
                    <a:ext cx="112680" cy="4104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" name=""/>
                <p:cNvSpPr/>
                <p:nvPr/>
              </p:nvSpPr>
              <p:spPr>
                <a:xfrm>
                  <a:off x="8023320" y="3688560"/>
                  <a:ext cx="63396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009280" y="5021280"/>
                  <a:ext cx="63396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C60-098C-4987-9425-2437EFE6AA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Проблеми ОРЕ в Україні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2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нцепція ОР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раховує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проб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7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наліз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різняє проблеми, що: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ластиві моделі Пул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ричинені поєднанням вад моделі Пулу та особливостей Україн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е пов'язані з моделлю ОР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7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наліз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точного стану пробл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значається покращ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ктивно йде пошук ріш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довжують бути потенційними проблемам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лишаються серйозним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C445-CD16-44EB-8861-11BE248C6C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71360" y="804960"/>
          <a:ext cx="8785440" cy="5491080"/>
        </p:xfrm>
        <a:graphic>
          <a:graphicData uri="http://schemas.openxmlformats.org/drawingml/2006/table">
            <a:tbl>
              <a:tblPr/>
              <a:tblGrid>
                <a:gridCol w="462240"/>
                <a:gridCol w="2157120"/>
                <a:gridCol w="465120"/>
                <a:gridCol w="2541600"/>
                <a:gridCol w="398520"/>
                <a:gridCol w="393840"/>
                <a:gridCol w="2367000"/>
              </a:tblGrid>
              <a:tr h="2462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облеми, що визначаються моделлю рин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залежні від модел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ластиві для модел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єднання вад моделі та специфічних для України обстав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ирішення  полегшується за нової модел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ідсутність належної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конодавчої бази для впровадження комерційних контракті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c0c0c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c0c0c0"/>
                          </a:solidFill>
                          <a:latin typeface="Arial"/>
                          <a:ea typeface="Times New Roman"/>
                        </a:rPr>
                        <a:t>Великі непогашені борги між учасниками ОР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c0c0c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c0c0c0"/>
                          </a:solidFill>
                          <a:latin typeface="Arial"/>
                          <a:ea typeface="Times New Roman"/>
                        </a:rPr>
                        <a:t>Нарахування податків на бухгалтерський а не реально отриманий касовий доход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дель не повністю сумісна з активним прозорим ринком експор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c0c0c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c0c0c0"/>
                          </a:solidFill>
                          <a:latin typeface="Arial"/>
                          <a:ea typeface="Times New Roman"/>
                        </a:rPr>
                        <a:t>Дефіцит поточних платеж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належно розвинуте  регулювання цін на користування системою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ідсутність стимулів для інвестиці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міністративне втручання у потік коштів на ОР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c0c0c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c0c0c0"/>
                          </a:solidFill>
                          <a:latin typeface="Arial"/>
                          <a:ea typeface="Times New Roman"/>
                        </a:rPr>
                        <a:t>Обмеження на постачання для платоспроможних споживач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та за робочу потужність використовується для прямого контролю за оптовими цінам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ефективна конкуренція, що спонукає регуляторне втручання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ідсутність гарантованих стандартів надійності та якост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ідсутність ринку допоміжних системних послуг (відсутність пікової/маневрової потужності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сокий рівень втрат в мережа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міністративне втручання в управління ринк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ідсутність належного комерційного облі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бування мереж у власності Обленерго надає їм переваг у конкуренції в сфері роздрібного постача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хресні субсидії між категоріями споживачів та регіон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ідсутність механізмів кредитних гарантій та управління ризик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КРЕ не є юридично незалежним орга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ідсутність стимулів для ефективного управління обмеженнями в передавальних мереж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овний комплект технічних прави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Проблеми ОРЕ в Україні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(ІІ)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1C13-9F2D-49F0-84D3-D3FC41EE84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7680" y="585720"/>
            <a:ext cx="788364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Ключові переваги ринку двосторонніх договорів та балансуючого ри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7720" y="1600200"/>
            <a:ext cx="8145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ова модель ринку двосторонніх договорів та балансуючого ринку (РДДБ) буде краще відповідати вирішенню наступних завдан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447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имулювання інвестиці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447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ображення витрат у ці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447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нкуренція та підвищення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фективності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4474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іжнародна торгівля електроенергією та інтеграція до Європейського рин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BB01-40C3-490A-AC0D-D8690EF15B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140328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егульовані платежі за робочу потужність та маневреність не базуються на обґрунтованому аналізі витрат та зазнають частих змі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еншення ризику втручання у процес складання графі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вгострокові прямі договори зменшують ринковий ризик та кредитний риз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нші ризики ведуть до менших фінансових вит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іткі сигнали про необхідність інвестування в усунення мережевих обме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480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Переваги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: </a:t>
            </a:r>
            <a:br>
              <a:rPr sz="3200"/>
            </a:b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Інвестиції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834D-EF30-43F7-BEAC-108D975A08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37944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Переваги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: </a:t>
            </a:r>
            <a:br>
              <a:rPr sz="3200"/>
            </a:b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Відображення витрат в ці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640" y="1531800"/>
            <a:ext cx="8204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восторонні договори, що пропонуватимуться виробниками, будуть відображати залежність їхніх дійсних витрат від сезону, періодів доб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бо інших умов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Ціни, що сплачуватимуться споживачами, будуть відображати характеристики їх попиту (графік навантаження, обсяг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раведливе ціноутворення за умов обмеження у мережах дає стимули для ліквідації цих обмежень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раведливе ціноутворення на резервну потужність та маневреність показує справжню цінність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цих по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A9B-D4AA-4EDC-A596-C944844814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2:20:54Z</dcterms:created>
  <dc:creator>MVK</dc:creator>
  <dc:description/>
  <dc:language>en-US</dc:language>
  <cp:lastModifiedBy>Punina</cp:lastModifiedBy>
  <dcterms:modified xsi:type="dcterms:W3CDTF">2008-09-22T14:50:40Z</dcterms:modified>
  <cp:revision>14</cp:revision>
  <dc:subject/>
  <dc:title>Перехід до нової моделі оптового ринку електроенергії в Україні </dc:title>
</cp:coreProperties>
</file>